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5C1D-25B8-48A0-B5CF-5DE2E9011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9A3E-5E1B-404F-8286-EDD2979012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large and diverse organization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B18E-6F9E-4BD5-9ADD-37B4B4900B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software engineering approaches that focus on defining requirements as the first step do not apply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355B-E1BE-4505-9BDE-448F6D9B3A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9581-43AB-41CF-BF47-97F84D9625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63AE-E002-40F3-9E0F-1EA3628AC5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MAC plan before it;  IOOS data management plan after it;  similar plans in other ag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D503-661B-4B1E-9030-482D126475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C617-2AE0-4EE4-9A42-D566BAB24C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 traditional enterprise software engineering approach to address such problem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We’re asking a question of changing corporate culture – much bigger than a software engineerin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ind of change is hard to foster under the best of circumstances.  Extra challenges on a very small budge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quirements you define will always be much too big for volunteer teams to meaningfully tack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DA3E-D837-4F2C-9499-EDDCAAA793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ting organizations and people to change is not easy.  But change is happening all the time.  Consider the changes that MP3’s and the iPOD have made to the music indus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problems -- understanding requirements and formulating a grand plan -- is not necessarily the best way forward.  Sometimes the best thing to do is to step back and see if success is already happening somewhere in this complex syst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copy what those successful people are do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fair – we decided on our strategy for UAF before this book came out.   The book merely serves to document that there is a theoretical basis for the approach I’m going to descri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E9A9-1B26-484E-9D47-3AD1156388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ing to gridded data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rvice stack defined here already has a lot of t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B72F-610F-4103-8AC6-AE32BBD6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B250-12C3-4DCA-BD5D-0791CA97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092A-B7C4-4ECC-814A-89A03E60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97BE-97C8-4869-80F0-A1FDA98C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7C7D-927C-4FBB-9456-CDB1520B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D606-DFDC-42CE-8F26-2C0BB7C3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7E31-3D0E-4A1A-9490-6906434E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2E44-44FE-4B2D-B552-97A75690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5713-B52D-4264-84D5-DB628CA2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2EF2-474A-485F-AECC-B080FEB0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280D-8010-43ED-B576-3B85BC42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5CAD-9461-4180-AA36-B4354A20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E540-9C5A-4044-A69B-B2FE34DC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66DB-FAB1-4A0D-B44A-AC7BF5F2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ED56-B1E6-4044-B71D-04B35BE5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DF6B-ADE9-4686-9F5E-CBCF465D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2FF5-6518-4D26-A2AB-CE56B2F1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D298-B62C-4479-8FBD-13947641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9968-DD33-4D17-9DE4-95B4FEFE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522-529A-42E6-8A3B-7BAE4CE8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3985-C0CB-4C3A-B768-837E1FD0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A524-8B73-4700-8ACC-7784B3F1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8C54-0306-440C-9F8E-E159B79A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681C-0848-40CC-830A-405D8529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v. 20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AA/UAF-gr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C8FE-18C1-47EB-999C-FC1C0BD934AD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" name="Group 48"/>
          <p:cNvGrpSpPr/>
          <p:nvPr/>
        </p:nvGrpSpPr>
        <p:grpSpPr>
          <a:xfrm>
            <a:off x="8534520" y="76320"/>
            <a:ext cx="530280" cy="533160"/>
            <a:chOff x="8534520" y="76320"/>
            <a:chExt cx="530280" cy="533160"/>
          </a:xfrm>
        </p:grpSpPr>
        <p:sp>
          <p:nvSpPr>
            <p:cNvPr id="46" name="Oval 49"/>
            <p:cNvSpPr/>
            <p:nvPr/>
          </p:nvSpPr>
          <p:spPr>
            <a:xfrm>
              <a:off x="8534520" y="76320"/>
              <a:ext cx="53028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pic>
          <p:nvPicPr>
            <p:cNvPr id="47" name="Picture 50" descr="noaalogo300"/>
            <p:cNvPicPr/>
            <p:nvPr/>
          </p:nvPicPr>
          <p:blipFill>
            <a:blip r:embed="rId7"/>
            <a:stretch/>
          </p:blipFill>
          <p:spPr>
            <a:xfrm>
              <a:off x="8534520" y="76320"/>
              <a:ext cx="530280" cy="533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5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6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21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2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v. 20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A/UAF-gr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A8FA-DCD0-46C5-BFCA-8CE4426D09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astcompany.com/magazine/142/switch-how-to-change-things-when-change-is-hard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v. 2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FE44-EABE-445E-B866-164E6D94A9EF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Enterprise-wide integration of data 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s a very hard problem!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AA/UAF-gr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v. 2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0C89-6D1D-4FE9-9732-4C67DA1C83B7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AA/UAF-gr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609480" y="609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440" indent="-55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is meeting/workshop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5440" indent="-5544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tinue what we have started on gridded dat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5440" indent="-5544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xtend to collections of observations (1D grids)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512640" indent="-5544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e current default tools already offer great value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512640" indent="-5544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oing beyond: What options exist to handle entire collections as “data objects”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228600" y="48769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440" indent="-55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Don’t let perfect be the enemy of good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5440" indent="-55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Corollary to “Don't Solve Problems -- Copy Success”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5440" indent="-55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v. 2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61D8-E06B-4990-8E46-681C7EF22A1E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Lets go!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AA/UAF-gr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v. 2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4BFF-0A38-4468-A04F-89D0194BFA15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Heterogeneous requirement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ata Providers with different outlook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(different "corporate cultures”)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ata Users with diverse needs and skill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rporate cultures and people’s habits are notoriously difficult to change</a:t>
            </a:r>
            <a:br>
              <a:rPr sz="2800"/>
            </a:b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(and getting funds for integration in NOAA has proven to be a difficult sell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AA/UAF-gr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v. 2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DE59-1D22-4F00-A2B5-8AABB1AA80FC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Integrating NOAA’s data</a:t>
            </a:r>
            <a:br>
              <a:rPr sz="3600"/>
            </a:b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is such a challeng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eather forecast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time critical)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isheries management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regulatory aspects)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nautical chart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imate, ocean, atmosphere monito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…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odeling &amp; observation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search &amp; operation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5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AA/UAF-gr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v. 2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7B75-B0FD-47C7-B1D8-45D1CDBC34B0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The accepted approach:</a:t>
            </a:r>
            <a:br>
              <a:rPr sz="3600"/>
            </a:b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build a “system of systems”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869840"/>
            <a:ext cx="75438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nect existing data systems using a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rvice Oriented Architectur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56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(“wrap” existing systems with loosely coupled, standardized services)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AA/UAF-gr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v. 2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D2D3-43B1-40F2-9F80-7140EF8AFBAF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4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Global Earth Observation</a:t>
            </a:r>
            <a:br>
              <a:rPr sz="3600"/>
            </a:b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Integrated Data Environment</a:t>
            </a:r>
            <a:r>
              <a:rPr b="0" lang="en-US" sz="4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419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O-IDE Con-ops outlines such a plan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2005-06,  66 pages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(by “DMIT”)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3"/>
          <a:stretch/>
        </p:blipFill>
        <p:spPr>
          <a:xfrm>
            <a:off x="4800600" y="2057400"/>
            <a:ext cx="3776760" cy="4233960"/>
          </a:xfrm>
          <a:prstGeom prst="rect">
            <a:avLst/>
          </a:prstGeom>
          <a:ln w="0">
            <a:noFill/>
          </a:ln>
        </p:spPr>
      </p:pic>
      <p:sp>
        <p:nvSpPr>
          <p:cNvPr id="196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AA/UAF-gr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v. 2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DA17-DD19-4A37-B8F8-54E5E3F3BA16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Seed funding</a:t>
            </a: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66"/>
                </a:solidFill>
                <a:latin typeface="Arial"/>
                <a:cs typeface="Arial"/>
              </a:rPr>
              <a:t>٨</a:t>
            </a:r>
            <a:r>
              <a:rPr b="0" lang="en-US" sz="1000" spc="-1" strike="noStrike">
                <a:solidFill>
                  <a:srgbClr val="ffff66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vailable last year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ow do you approach a very big problem with a very small amount of money?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352680" y="2714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final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AA/UAF-gr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v. 2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3462-7780-4DDF-A334-C6B2CE17C361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763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-522720">
              <a:spcBef>
                <a:spcPts val="799"/>
              </a:spcBef>
              <a:buClr>
                <a:srgbClr val="ffff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Generate use cas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970560" indent="-522720">
              <a:spcBef>
                <a:spcPts val="799"/>
              </a:spcBef>
              <a:buClr>
                <a:srgbClr val="ffff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e requirement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970560" indent="-522720">
              <a:spcBef>
                <a:spcPts val="799"/>
              </a:spcBef>
              <a:buClr>
                <a:srgbClr val="ffff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Write a Concept of Operations documen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970560" indent="-522720">
              <a:spcBef>
                <a:spcPts val="799"/>
              </a:spcBef>
              <a:buClr>
                <a:srgbClr val="ffff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…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d then an Implementation Plan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970560" indent="-522720">
              <a:spcBef>
                <a:spcPts val="799"/>
              </a:spcBef>
              <a:buClr>
                <a:srgbClr val="ffff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ssemble volunteer teams to implement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066680" y="5257800"/>
            <a:ext cx="685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NOT !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07" name="Group 7"/>
          <p:cNvGrpSpPr/>
          <p:nvPr/>
        </p:nvGrpSpPr>
        <p:grpSpPr>
          <a:xfrm>
            <a:off x="1173600" y="1508040"/>
            <a:ext cx="6801120" cy="2946960"/>
            <a:chOff x="1173600" y="1508040"/>
            <a:chExt cx="6801120" cy="2946960"/>
          </a:xfrm>
        </p:grpSpPr>
        <p:sp>
          <p:nvSpPr>
            <p:cNvPr id="208" name="Line 5"/>
            <p:cNvSpPr/>
            <p:nvPr/>
          </p:nvSpPr>
          <p:spPr>
            <a:xfrm flipV="1">
              <a:off x="1269720" y="1508040"/>
              <a:ext cx="6600240" cy="2946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9" name="Line 6"/>
            <p:cNvSpPr/>
            <p:nvPr/>
          </p:nvSpPr>
          <p:spPr>
            <a:xfrm>
              <a:off x="1173600" y="1877400"/>
              <a:ext cx="6801120" cy="2448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10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AA/UAF-gr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TextBox 10"/>
          <p:cNvSpPr/>
          <p:nvPr/>
        </p:nvSpPr>
        <p:spPr>
          <a:xfrm>
            <a:off x="990720" y="53352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Tried and true approach …  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v. 2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5EB2-D0CE-4562-8386-6BD44984E4DA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n alternative (‘agile’) approach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55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on't Solve Problems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-- Copy Success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685800" y="4191120"/>
            <a:ext cx="8001000" cy="17524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440" indent="-55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"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Switch: How to Change Things When Change Is Hard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", Chip and Dan Heath (psychologists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http://www.fastcompany.com/magazine/142/switch-how-to-change-things-when-change-is-hard.html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AA/UAF-gr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v. 2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B539-C86F-4E1A-9F69-A09D8AC8FB55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80880" y="151920"/>
            <a:ext cx="8229600" cy="685800"/>
          </a:xfrm>
          <a:prstGeom prst="rect">
            <a:avLst/>
          </a:prstGeom>
          <a:solidFill>
            <a:srgbClr val="adf0f5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:           (too many to name)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80880" y="1219320"/>
            <a:ext cx="8229600" cy="1218960"/>
          </a:xfrm>
          <a:prstGeom prst="rect">
            <a:avLst/>
          </a:prstGeom>
          <a:solidFill>
            <a:srgbClr val="adf0f5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2133720" y="1523880"/>
            <a:ext cx="144756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etCDF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3892680" y="1523880"/>
            <a:ext cx="131436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RIB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5518080" y="1523880"/>
            <a:ext cx="125748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DF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5" name="Group 41"/>
          <p:cNvGrpSpPr/>
          <p:nvPr/>
        </p:nvGrpSpPr>
        <p:grpSpPr>
          <a:xfrm>
            <a:off x="380880" y="2612880"/>
            <a:ext cx="8305920" cy="1143000"/>
            <a:chOff x="380880" y="2612880"/>
            <a:chExt cx="8305920" cy="1143000"/>
          </a:xfrm>
        </p:grpSpPr>
        <p:sp>
          <p:nvSpPr>
            <p:cNvPr id="226" name="Rectangle 9"/>
            <p:cNvSpPr/>
            <p:nvPr/>
          </p:nvSpPr>
          <p:spPr>
            <a:xfrm>
              <a:off x="380880" y="2612880"/>
              <a:ext cx="8305920" cy="1143000"/>
            </a:xfrm>
            <a:prstGeom prst="rect">
              <a:avLst/>
            </a:prstGeom>
            <a:solidFill>
              <a:srgbClr val="adf0f5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tack:</a:t>
              </a: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2590920" y="2917800"/>
              <a:ext cx="4572000" cy="533160"/>
            </a:xfrm>
            <a:prstGeom prst="rect">
              <a:avLst/>
            </a:prstGeom>
            <a:solidFill>
              <a:srgbClr val="3366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netCDF-CF-DAP-THREDDS-WMS 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28" name="Group 42"/>
          <p:cNvGrpSpPr/>
          <p:nvPr/>
        </p:nvGrpSpPr>
        <p:grpSpPr>
          <a:xfrm>
            <a:off x="380880" y="4114800"/>
            <a:ext cx="8229600" cy="1219320"/>
            <a:chOff x="380880" y="4114800"/>
            <a:chExt cx="8229600" cy="1219320"/>
          </a:xfrm>
        </p:grpSpPr>
        <p:sp>
          <p:nvSpPr>
            <p:cNvPr id="229" name="Rectangle 11"/>
            <p:cNvSpPr/>
            <p:nvPr/>
          </p:nvSpPr>
          <p:spPr>
            <a:xfrm>
              <a:off x="380880" y="4114800"/>
              <a:ext cx="8229600" cy="1219320"/>
            </a:xfrm>
            <a:prstGeom prst="rect">
              <a:avLst/>
            </a:prstGeom>
            <a:solidFill>
              <a:srgbClr val="adf0f5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pplications:</a:t>
              </a: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0" name="Rectangle 13"/>
            <p:cNvSpPr/>
            <p:nvPr/>
          </p:nvSpPr>
          <p:spPr>
            <a:xfrm>
              <a:off x="2924280" y="4219560"/>
              <a:ext cx="1447560" cy="3524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Matlab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1" name="Rectangle 14"/>
            <p:cNvSpPr/>
            <p:nvPr/>
          </p:nvSpPr>
          <p:spPr>
            <a:xfrm>
              <a:off x="4448160" y="4219560"/>
              <a:ext cx="1447920" cy="3524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rcGI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2" name="Rectangle 15"/>
            <p:cNvSpPr/>
            <p:nvPr/>
          </p:nvSpPr>
          <p:spPr>
            <a:xfrm>
              <a:off x="5972040" y="4219560"/>
              <a:ext cx="1752840" cy="3524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Ferret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" name="Rectangle 16"/>
            <p:cNvSpPr/>
            <p:nvPr/>
          </p:nvSpPr>
          <p:spPr>
            <a:xfrm>
              <a:off x="990720" y="4829040"/>
              <a:ext cx="1447560" cy="3524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GrAD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4" name="Rectangle 17"/>
            <p:cNvSpPr/>
            <p:nvPr/>
          </p:nvSpPr>
          <p:spPr>
            <a:xfrm>
              <a:off x="2590920" y="4832280"/>
              <a:ext cx="1676160" cy="3524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Google Earth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5" name="Rectangle 18"/>
            <p:cNvSpPr/>
            <p:nvPr/>
          </p:nvSpPr>
          <p:spPr>
            <a:xfrm>
              <a:off x="4419720" y="4829040"/>
              <a:ext cx="838080" cy="3524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DV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6" name="Rectangle 19"/>
            <p:cNvSpPr/>
            <p:nvPr/>
          </p:nvSpPr>
          <p:spPr>
            <a:xfrm>
              <a:off x="5410080" y="4832280"/>
              <a:ext cx="838440" cy="3524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A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7" name="Rectangle 20"/>
            <p:cNvSpPr/>
            <p:nvPr/>
          </p:nvSpPr>
          <p:spPr>
            <a:xfrm>
              <a:off x="6400800" y="4844880"/>
              <a:ext cx="1066680" cy="3524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RDDAP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8" name="Rectangle 21"/>
            <p:cNvSpPr/>
            <p:nvPr/>
          </p:nvSpPr>
          <p:spPr>
            <a:xfrm>
              <a:off x="7620120" y="4844880"/>
              <a:ext cx="838080" cy="3524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…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39" name="Rectangle 23"/>
          <p:cNvSpPr/>
          <p:nvPr/>
        </p:nvSpPr>
        <p:spPr>
          <a:xfrm>
            <a:off x="380880" y="5943600"/>
            <a:ext cx="8229600" cy="685800"/>
          </a:xfrm>
          <a:prstGeom prst="rect">
            <a:avLst/>
          </a:prstGeom>
          <a:solidFill>
            <a:srgbClr val="adf0f5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:              (too many to name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0" name="Group 31"/>
          <p:cNvGrpSpPr/>
          <p:nvPr/>
        </p:nvGrpSpPr>
        <p:grpSpPr>
          <a:xfrm>
            <a:off x="2666880" y="609480"/>
            <a:ext cx="4572000" cy="762120"/>
            <a:chOff x="2666880" y="609480"/>
            <a:chExt cx="4572000" cy="762120"/>
          </a:xfrm>
        </p:grpSpPr>
        <p:sp>
          <p:nvSpPr>
            <p:cNvPr id="241" name="Line 24"/>
            <p:cNvSpPr/>
            <p:nvPr/>
          </p:nvSpPr>
          <p:spPr>
            <a:xfrm>
              <a:off x="2666880" y="838080"/>
              <a:ext cx="1295640" cy="53352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2" name="Line 25"/>
            <p:cNvSpPr/>
            <p:nvPr/>
          </p:nvSpPr>
          <p:spPr>
            <a:xfrm flipH="1">
              <a:off x="4419720" y="762120"/>
              <a:ext cx="838080" cy="60948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3" name="Line 26"/>
            <p:cNvSpPr/>
            <p:nvPr/>
          </p:nvSpPr>
          <p:spPr>
            <a:xfrm>
              <a:off x="3733920" y="762120"/>
              <a:ext cx="1295280" cy="53316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 flipH="1">
              <a:off x="3809520" y="609480"/>
              <a:ext cx="838440" cy="68580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5" name="Line 28"/>
            <p:cNvSpPr/>
            <p:nvPr/>
          </p:nvSpPr>
          <p:spPr>
            <a:xfrm>
              <a:off x="5943600" y="762120"/>
              <a:ext cx="1295280" cy="53316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6" name="Line 29"/>
            <p:cNvSpPr/>
            <p:nvPr/>
          </p:nvSpPr>
          <p:spPr>
            <a:xfrm flipH="1">
              <a:off x="5791320" y="685800"/>
              <a:ext cx="838080" cy="60948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7" name="Line 30"/>
            <p:cNvSpPr/>
            <p:nvPr/>
          </p:nvSpPr>
          <p:spPr>
            <a:xfrm>
              <a:off x="4419720" y="685800"/>
              <a:ext cx="1218960" cy="60948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48" name="Group 32"/>
          <p:cNvGrpSpPr/>
          <p:nvPr/>
        </p:nvGrpSpPr>
        <p:grpSpPr>
          <a:xfrm>
            <a:off x="2438280" y="5334120"/>
            <a:ext cx="4572000" cy="761400"/>
            <a:chOff x="2438280" y="5334120"/>
            <a:chExt cx="4572000" cy="761400"/>
          </a:xfrm>
        </p:grpSpPr>
        <p:sp>
          <p:nvSpPr>
            <p:cNvPr id="249" name="Line 33"/>
            <p:cNvSpPr/>
            <p:nvPr/>
          </p:nvSpPr>
          <p:spPr>
            <a:xfrm>
              <a:off x="2438280" y="5562360"/>
              <a:ext cx="1295640" cy="53316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0" name="Line 34"/>
            <p:cNvSpPr/>
            <p:nvPr/>
          </p:nvSpPr>
          <p:spPr>
            <a:xfrm flipH="1">
              <a:off x="4191120" y="5486400"/>
              <a:ext cx="838080" cy="60912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1" name="Line 35"/>
            <p:cNvSpPr/>
            <p:nvPr/>
          </p:nvSpPr>
          <p:spPr>
            <a:xfrm>
              <a:off x="3505320" y="5486400"/>
              <a:ext cx="1295280" cy="53280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2" name="Line 36"/>
            <p:cNvSpPr/>
            <p:nvPr/>
          </p:nvSpPr>
          <p:spPr>
            <a:xfrm flipH="1">
              <a:off x="3580920" y="5334120"/>
              <a:ext cx="838440" cy="68544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3" name="Line 37"/>
            <p:cNvSpPr/>
            <p:nvPr/>
          </p:nvSpPr>
          <p:spPr>
            <a:xfrm>
              <a:off x="5715000" y="5486400"/>
              <a:ext cx="1295280" cy="53280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4" name="Line 38"/>
            <p:cNvSpPr/>
            <p:nvPr/>
          </p:nvSpPr>
          <p:spPr>
            <a:xfrm flipH="1">
              <a:off x="5562720" y="5410080"/>
              <a:ext cx="838080" cy="60912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5" name="Line 39"/>
            <p:cNvSpPr/>
            <p:nvPr/>
          </p:nvSpPr>
          <p:spPr>
            <a:xfrm>
              <a:off x="4191120" y="5410080"/>
              <a:ext cx="1218960" cy="60912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56" name="AutoShape 43"/>
          <p:cNvSpPr/>
          <p:nvPr/>
        </p:nvSpPr>
        <p:spPr>
          <a:xfrm>
            <a:off x="4114800" y="2209680"/>
            <a:ext cx="91440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AutoShape 44"/>
          <p:cNvSpPr/>
          <p:nvPr/>
        </p:nvSpPr>
        <p:spPr>
          <a:xfrm>
            <a:off x="4114800" y="3549600"/>
            <a:ext cx="9144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Rectangle 45"/>
          <p:cNvSpPr/>
          <p:nvPr/>
        </p:nvSpPr>
        <p:spPr>
          <a:xfrm>
            <a:off x="7086600" y="1523880"/>
            <a:ext cx="83808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Footer Placeholder 4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AA/UAF-gr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23:39:23Z</dcterms:created>
  <dc:creator>tmap/k</dc:creator>
  <dc:description/>
  <dc:language>en-US</dc:language>
  <cp:lastModifiedBy>hankin</cp:lastModifiedBy>
  <dcterms:modified xsi:type="dcterms:W3CDTF">2010-11-16T16:20:43Z</dcterms:modified>
  <cp:revision>414</cp:revision>
  <dc:subject/>
  <dc:title>Slide 1</dc:title>
</cp:coreProperties>
</file>